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9365-9472-421D-9954-435F20FB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7934-C6D6-4181-8DE8-D135C215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7724-1274-43AB-AAD7-F58C0F01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7933-765C-4D6B-8C14-EFF324C1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13AF-C549-4297-85EB-08710CE7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2082-5782-4BEF-8547-ACC3BDC2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8E68-D53F-46DD-B2E4-F4E0E383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7EEE-1E8B-43CF-B4F4-8E51FB98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1633-1FD7-4F72-AFC5-8E97415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991F-2B44-4C66-BCC5-69C40DEE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AC23-8413-40C0-A47E-5411A378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1DE9-D80B-44CD-A1DA-665026F2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0818-D107-4F85-824A-77192BF9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6CC2-7A47-4695-BC8C-990A986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726C-6BA4-40AE-951A-F7C5AAEE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FAC-6E78-4C8E-AE12-270FAF01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5E1A-352F-42A8-9A6E-79B21C8C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C4D5-149D-4B63-82C8-82AA61E8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B67C-29B0-4979-B5A5-05D10FF3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EBE4-34B3-4813-AB95-EC7E4BBE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E0D3-E2DD-40BA-981B-BA15B7DA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070F-F05E-449F-A0B3-F6DBEBD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A1E4-2B79-4A20-9934-D05B2DC7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3591-530B-447A-A03E-B0743E4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519B-5A07-4316-ACD2-46ABD44FA8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08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FCF-64A3-4061-B7FB-B7B68D3B45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4680" y="836280"/>
            <a:ext cx="8640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 Narrow"/>
              </a:rPr>
              <a:t>Avaliação da Geometria dos Meios Porosos por Imagens Binárias</a:t>
            </a:r>
            <a:br>
              <a:rPr sz="54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0560" y="4221000"/>
            <a:ext cx="8713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Aura Conci, Inhaúma Neves Ferraz, Ana Cristina Bicharra Garc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velyn de Almeida Vieira*, Rafael Heitor Correia de Melo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partamento de Ciência da Computação, IC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FF – Universidade Federal Flumin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*Bolsitas do laboratório ADDLa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stes de validaç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047600" y="183816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5219640" y="1835280"/>
            <a:ext cx="3097440" cy="1881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1047600" y="418140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240000" cy="143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8BD7-3E79-434B-A4A0-C85B492482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stes de validaç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3167280" cy="33130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5076720" y="3284640"/>
            <a:ext cx="2808360" cy="166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E1D2-3532-4944-8614-97AB83DD65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mparativo dos métod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anulometria sem reconstruç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simp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anulometria com reconstr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condic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3635280" y="1773360"/>
            <a:ext cx="5334120" cy="19112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3635280" y="4202280"/>
            <a:ext cx="5280120" cy="18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E3CB-B74D-4768-B2F2-687765FF11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stes de validaç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900000" y="3500280"/>
            <a:ext cx="3087720" cy="31687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241800" cy="299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C58E-524C-40F6-8230-2B9738C24F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mo simples adequado para avaliações de imagens com grãos reg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mo com reconstrução (condicional) pode ser utilizado em casos mais genér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e haver falha na interpretação do diâmetro do grão encontrad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3FDE-E93C-4CA6-A1F0-5174D941A6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umár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rigem do probl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ceitos 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do pro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stes de valid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o dos mét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clu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1F30-EEBF-4571-9F15-8E40DDD41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rigem do problem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urgiu da necessidade de se automatizar um processo atualmente manual (através de peneiras) de determinação de frequências de grãos em amost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e problema em processamento de imagens digitais é resolvido pela granulomet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0DE6-3999-459F-BF27-BBBA8964BF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dfdef6"/>
                </a:solidFill>
                <a:latin typeface="Arial"/>
              </a:rPr>
              <a:t>Conceitos básicos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de Morfologia Matemátic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o estrutur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s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lataç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er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CE7D-9ADE-4656-A306-1ECC4B61B8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mento estruturant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elemento estruturante é um conjunto definido e conhecido (forma e tamanh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comparado ao conjunto desconhecido da imag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2257560" y="4572000"/>
            <a:ext cx="462888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0201-2F33-46F5-B6EC-FBC91237A1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ros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 de imagem e sua erosão por um elemento estruturante 3x3 em cru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801720" y="3943440"/>
            <a:ext cx="753912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DA3A-5B75-468B-9593-F458FEC56A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lataç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 de imagem e sua dilatação por um elemento estruturante 3x3 em cru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801720" y="3943440"/>
            <a:ext cx="753912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E36B-38AD-426B-9081-8FCA95240C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bert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osão seguida de dilat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 de imagem e sua abertura por um elemento estruturante 3x3 quad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801720" y="3943440"/>
            <a:ext cx="753912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42DC-7F33-452F-9E83-0F78839042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talhamento do proje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anulometria pode ser definida como um conjunto de aberturas crescentes de tamanho n=1, 2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s operações de abertura correspondem à passagem da imagem por “peneiras virtuai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rma e o tamanho do elemento estruturante da abertura “equivalem” às formas e tamanhos dos buracos desta penei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1B92-CCB0-4859-8D85-891C955E59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16:13:21Z</dcterms:created>
  <dc:creator>Free User</dc:creator>
  <dc:description/>
  <dc:language>en-US</dc:language>
  <cp:lastModifiedBy>adm</cp:lastModifiedBy>
  <dcterms:modified xsi:type="dcterms:W3CDTF">2004-04-03T18:16:53Z</dcterms:modified>
  <cp:revision>57</cp:revision>
  <dc:subject/>
  <dc:title>Granulometria: Uma aplicação para contagem e medição de grãos em imagens digitais</dc:title>
</cp:coreProperties>
</file>